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BC3-B321-4949-A5C0-02E7DF38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884-39F8-438E-B901-79EA22E5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2FE-3D28-434A-9A95-3B7B68B1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A09-EB68-42D5-B026-1CE69E84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05C-9AE8-47DA-A1D4-61F80FB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CF2-020F-4560-9FD2-39693800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309-3EF0-47CE-A2A0-44454EF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B67-9F78-49C9-9806-7D0CEF56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385-BF5E-4EE0-A35C-8C680D9D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FCD-FCD3-486E-B0EA-4FFDCFA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B1F-C77E-4310-8B36-02DB0EB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F45-3F0D-4D57-A611-6A1A8E7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59FE0-D04D-4B3C-904E-646EBEAB13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4C565-5FC8-41E8-AD95-A55E890A4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terdays N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 Millon Customers without  access to their T-Mobile ph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ll blackout of the T-Mobile network from 15:45 to 22: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black out took so long, because most of the technicians and service personal that maintain the T-Mobile network could not be reached on their mobile ph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 for the black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 computer responsible for mapping phone numbers to SIM cards had cra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ts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ping a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nging up a network using the network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ping a compi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a compiler for a computer language using the computer language itself to code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ing a compu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a simple computer system activating a more complicated computer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 fun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a business without external capital. Startups that fund their business and development of their company through their own internal cash f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on von Münchhau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4176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I was still a couple of miles above the clouds when it broke, and with such violence I fell to the ground that I found myself stunned, and in a hole nine fathoms under the grass, when I recovered, hardly knowing how to get out ag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oking down, I observed that I had on a pair of boots with exceptionally sturdy straps. Grasping them firmly, I pulled with all my m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on I had hoist myself to the top and stepped out on terra firma without further ado.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R. E. Rasp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ngular Travels, Campaigns and Adventures of Baron Munchaus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178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Bild 6" descr=""/>
          <p:cNvPicPr/>
          <p:nvPr/>
        </p:nvPicPr>
        <p:blipFill>
          <a:blip r:embed="rId1"/>
          <a:stretch/>
        </p:blipFill>
        <p:spPr>
          <a:xfrm>
            <a:off x="7010280" y="529596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7:53:03Z</dcterms:created>
  <dc:creator>Bernd Bruegge</dc:creator>
  <dc:description/>
  <dc:language>en-US</dc:language>
  <cp:lastModifiedBy>Bernd Bruegge</cp:lastModifiedBy>
  <dcterms:modified xsi:type="dcterms:W3CDTF">2009-04-22T08:09:00Z</dcterms:modified>
  <cp:revision>2</cp:revision>
  <dc:subject/>
  <dc:title>Folie 1</dc:title>
</cp:coreProperties>
</file>